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A28-250B-4810-B875-C0E18484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F1A-2A9E-4A2E-8A8B-3AFA4507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CDB-FFA3-4C1D-9D69-3ACDC32B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C5F-F1AF-4991-B58D-6619AF64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C9BA-8EC2-4343-AB33-5A281D3A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3745-8E89-4C63-8362-1BC182F1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4D81-1FC7-435F-830C-E4B2BBDD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5257-B86B-4A09-878E-DA19A918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F065-6715-401C-AFDC-76FF50F4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C4C9-C814-458A-830B-5D64E386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94C8-2583-4683-B0AB-8F93A6E2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523-A3D6-43DB-ADC9-E4ABC850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7FA5-FA1B-4DA9-B00D-C036B772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B2D6-7BD7-4CE9-B7DE-6EC848FA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1FCC-F310-4609-8B46-2423E6D6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2892-AF87-4092-9760-B73E5758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B8AD-E6C3-4889-8F98-29B2B38D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2243F-3B58-466C-8B15-B1785D13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313E-60D6-4968-8882-843F2765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A1B6-83B0-466E-9353-FD979B29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4AF56-FD22-4E4D-AB70-F8D8EB1A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2781-D281-48A5-9E54-246CF978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064-4F1D-4DD2-858A-C8EE8C02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32044-B163-4EC6-BCAD-6842A4C9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4BFE0-BFBC-4D36-BE93-9F6F4A58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387A-D68B-4DB0-8CAD-9DAA8173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BF985-6610-453A-9677-D7C53303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CABE9-ED79-47ED-B4C2-A44E5108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CCBC4-BF0D-4B16-8658-1C59FA37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E0BEA-9309-4E1C-A7DC-5A420BB6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D5E0A-0450-4A0A-BC09-B7AF3B66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839B9-1F20-4E22-8D80-20349481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1EACE-7BDD-4B03-B53F-60EF167C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761-AEB5-40C2-90CF-0A7FDD6A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EBBA7-BFDE-4B66-B183-436FABCD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E7909-5E08-4049-B35B-CFCED706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435A5-7274-4D15-B37D-2665932B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DB346-C2D1-4696-BC0E-5F4376BC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3BFDF-B710-49CC-AE36-31018242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6BF83-E9D7-4F1D-8F90-8E1F5964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F7709-4F13-4236-845B-035F6BBC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2E3B9-2BBD-4967-81D5-FDD6D18B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E498F-A8D3-447D-A120-BD34CDCB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F8E-D84B-42A8-ABF6-3A8EE5A3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6CF-5858-4381-86A5-D86F4DE7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800-51CA-4C4C-9FAA-D275513F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B7C-4765-49FD-B832-6C6E4D93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019-1107-422F-B1B8-FDB48653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66CB-2A9C-4D6E-B724-683071B8540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AE67-FA84-4795-AF63-025D4F17B5B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F271-B3D1-462A-9C84-C27CBF6980D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9739-1124-4849-BEC1-96B581B59C7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Arial"/>
              </a:rPr>
              <a:t>Мутагени агенс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c00000"/>
                </a:solidFill>
                <a:latin typeface="Constantia"/>
              </a:rPr>
              <a:t>• 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Базни аналози</a:t>
            </a: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супституција оригиналних ба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5-бромурацил –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уместо Т – спарује се с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2-аминопурин -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уместо А – спарује се с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•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Азотне базе 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хемикалије које мењају структуру ба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врше дезаминацију баз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елиминација амино груп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из базе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азотаста кис., етил-метансулфонат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дезаминацијом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настаје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U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дезаминацијом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настаје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ксантин (ксантин с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некада спарује с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, а у неким слу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чајевима се не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спарује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па се репликација зауставља)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дезаминацијом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настаје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хипоксантин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везује се з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54900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•</a:t>
            </a:r>
            <a:r>
              <a:rPr b="0" i="1" lang="sr-CS" sz="2800" spc="-1" strike="noStrike">
                <a:solidFill>
                  <a:srgbClr val="e2d700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Алкилирајући агенси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Constantia"/>
              </a:rPr>
              <a:t>–</a:t>
            </a:r>
            <a:r>
              <a:rPr b="0" i="1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гр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ју алкил групу изме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 база у молекулу Д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нитр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озогуанози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метил метансулфона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етил</a:t>
            </a: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метансулфона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•</a:t>
            </a:r>
            <a:r>
              <a:rPr b="0" i="1" lang="sr-Latn-CS" sz="2800" spc="-1" strike="noStrike">
                <a:solidFill>
                  <a:srgbClr val="ecec0c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Интеркалирајући</a:t>
            </a:r>
            <a:r>
              <a:rPr b="0" i="1" lang="sr-Latn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агенси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грађују се изм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еђ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 баз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а; доводе до мутација типа помака (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frameshift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етидиум бромид</a:t>
            </a: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акридин оранж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профлави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Constantia"/>
              </a:rPr>
              <a:t>Агенси који  НЕ делују директно на ДНК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делују на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onstantia"/>
              </a:rPr>
              <a:t>репаративне механизме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Д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делују на молекул 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делују на 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протеин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Антимутагени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супстанце које умањују мутагено дејство  хемијских агенас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Врсте хемијских агенаса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65628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Агенси природног порек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кафе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теофил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теобром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биљни алкалоид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Агенси индустријског порек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редински хемијски мутаге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естицид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нсектицид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Винилхлорид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дитиви, конзерванси, боје у прехрамбеној индустрији, емулгатори (Е123, 221-226, 250-251, 320-322, 338-341..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Лекови (цитостатици, седативи, антибиотици, дроге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. ефекат </a:t>
            </a:r>
            <a:r>
              <a:rPr b="0" lang="sr-Latn-CS" sz="2200" spc="-1" strike="noStrike">
                <a:solidFill>
                  <a:srgbClr val="ff0066"/>
                </a:solidFill>
                <a:latin typeface="Arial"/>
                <a:ea typeface="Arial"/>
              </a:rPr>
              <a:t>Талидоми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(мутагено и тератогено дејство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Ефекат талидомид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thalidomidecollage1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547280" y="1052280"/>
            <a:ext cx="5689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ФИЗИЧКИ АГЕНСИ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Нејонизујуће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зрачењ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Јонизујуће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зрачењ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ff0066"/>
                </a:solidFill>
                <a:latin typeface="Arial"/>
              </a:rPr>
              <a:t>Нејонизујуће зрачење - </a:t>
            </a:r>
            <a:r>
              <a:rPr b="1" lang="sr-Latn-CS" sz="4600" spc="-1" strike="noStrike">
                <a:solidFill>
                  <a:srgbClr val="ff0066"/>
                </a:solidFill>
                <a:latin typeface="Arial"/>
              </a:rPr>
              <a:t>UV</a:t>
            </a:r>
            <a:r>
              <a:rPr b="1" lang="sr-Latn-CS" sz="46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ала продорност кроз тки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етљивији су организми на 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м ступњу еволутивне леств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фекат зависи од фазе ћелијског циклу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фекат зависи од употребљене до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а повећањем дозе расте фреквенца оштећења (постоји праг деловањ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ју  димери у молекулу ДНК (најчешће Т=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36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ко зрачење које у току интеракције са материјом кроз коју пролази може да врш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онизациј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тома и молеку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рајам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3333ff"/>
                </a:solidFill>
                <a:latin typeface="Arial"/>
              </a:rPr>
              <a:t>електромагнетне талас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Х-зраци и гама-зрац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3333ff"/>
                </a:solidFill>
                <a:latin typeface="Arial"/>
              </a:rPr>
              <a:t>корпускуларно зраче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електрони, протони, позитрони, алфа-зраци и неутрон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тварује кумулативни ефека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постоји пра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ејст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ханизам дејства се објашњава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т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еоријом слободних радикала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екти на ДНК могу би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. директ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индирект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7" name="Object 7"/>
          <p:cNvGraphicFramePr/>
          <p:nvPr/>
        </p:nvGraphicFramePr>
        <p:xfrm>
          <a:off x="6012000" y="3645000"/>
          <a:ext cx="256860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645000"/>
                    <a:ext cx="256860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Спонтане мутације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4358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ознати фактори који доводе до мутациј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ешке приликом репликациј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понтана стопа мутације по гену износ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нтана стопа мутације по нуклеотиду износ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681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 молекулу ДНК изазив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једноланчан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прекид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воланчан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прекид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slika - zracenje i DNK"/>
          <p:cNvPicPr/>
          <p:nvPr/>
        </p:nvPicPr>
        <p:blipFill>
          <a:blip r:embed="rId1"/>
          <a:stretch/>
        </p:blipFill>
        <p:spPr>
          <a:xfrm>
            <a:off x="5437080" y="1773360"/>
            <a:ext cx="3706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фекат зависи од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врсте организ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најосетљивији су сисари, а међу њима чове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лулетална доза за човека је  4-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, инсекте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, бактерије 5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, Протозое 1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физиолошког ст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организ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аз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ћелијског циклу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500" spc="-1" strike="noStrike">
                <a:solidFill>
                  <a:srgbClr val="000000"/>
                </a:solidFill>
                <a:latin typeface="Arial"/>
              </a:rPr>
              <a:t>Промене у генетичком материјалу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умеричке аберације хромозо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руктурне аберације хромозо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3.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генске мутациј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"/>
              </a:rPr>
              <a:t>Фактори који појачавају генотоксични ефекат јонизујућег зрачења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45a9e"/>
                </a:solidFill>
                <a:latin typeface="Constantia"/>
              </a:rPr>
              <a:t>              </a:t>
            </a:r>
            <a:r>
              <a:rPr b="1" lang="en-US" sz="3600" spc="-1" strike="noStrike">
                <a:solidFill>
                  <a:srgbClr val="645a9e"/>
                </a:solidFill>
                <a:latin typeface="Constantia"/>
              </a:rPr>
              <a:t>	</a:t>
            </a:r>
            <a:r>
              <a:rPr b="1" lang="sr-CS" sz="3600" spc="-1" strike="noStrike">
                <a:solidFill>
                  <a:srgbClr val="ff0066"/>
                </a:solidFill>
                <a:latin typeface="Arial"/>
              </a:rPr>
              <a:t>кисеоник -  </a:t>
            </a:r>
            <a:r>
              <a:rPr b="1" lang="sr-Latn-CS" sz="36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1" lang="sr-Latn-CS" sz="3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sr-Latn-CS" sz="3600" spc="-1" strike="noStrike" baseline="30000">
                <a:solidFill>
                  <a:srgbClr val="cc0099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исеонички ефекат има улогу у формирању реактивних пероксида - слободних радика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Constantia"/>
              </a:rPr>
              <a:t>Биолошки мутагени - </a:t>
            </a:r>
            <a:r>
              <a:rPr b="1" lang="sr-CS" sz="4800" spc="-1" strike="noStrike">
                <a:solidFill>
                  <a:srgbClr val="ff0066"/>
                </a:solidFill>
                <a:latin typeface="Constantia"/>
              </a:rPr>
              <a:t>вирус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4520" indent="-294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НК вирус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РНК вирус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посебна група РНК вируса - РНК-ДНК вируси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субцелуларни организ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немају способност док су слободни у ваздуху да се размножавај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немају сопствени метаболиз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показују јасан афинитет према одређеним генима или деловима хром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Вирусна нуклеинска киселина се у ћелији домаћину умножава 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зависно (лизогена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инфекција)или 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независно (литичка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инфекциј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Улога вируса у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2637000"/>
            <a:ext cx="763272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sr-CS" sz="2600" spc="-1" strike="noStrike">
                <a:solidFill>
                  <a:srgbClr val="0000ff"/>
                </a:solidFill>
                <a:latin typeface="Constantia"/>
              </a:rPr>
              <a:t>патогенез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sr-CS" sz="2600" spc="-1" strike="noStrike">
                <a:solidFill>
                  <a:srgbClr val="0000ff"/>
                </a:solidFill>
                <a:latin typeface="Constantia"/>
              </a:rPr>
              <a:t>онкогенези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- вирусни онког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sr-CS" sz="2600" spc="-1" strike="noStrike">
                <a:solidFill>
                  <a:srgbClr val="0000ff"/>
                </a:solidFill>
                <a:latin typeface="Constantia"/>
              </a:rPr>
              <a:t>променама у генетичком материјалу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генске мутације, хромозомске аберације типа прек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600" spc="-1" strike="noStrike">
                <a:solidFill>
                  <a:srgbClr val="000000"/>
                </a:solidFill>
                <a:latin typeface="Arial"/>
                <a:ea typeface="Arial"/>
              </a:rPr>
              <a:t>вежб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86756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ЗА ДЕТЕКЦИЈУ   ГЕНОТОКСИЧНИХ АГЕНАСА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Хумани кариотип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 Стандардизација хуманог кариотип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и агенси присутни у човековој средини имају способност индуковања промена у наследном материјалу герминативних или соматских ћелија човека. Овакви агенси се означавају као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ГЕНОТОКСИЧНИ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АГЕНСИ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305920" cy="14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енетичка токсикологиј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8991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задатак ј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детекција генотоксичних агена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генетичкој токсикологији постоји систем одабирања и давања приоритета супстанцама које треба тестирати -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селекција пиоритета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Индуковане мутације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Фактори који могу проузроковати мутације су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0066"/>
                </a:solidFill>
                <a:latin typeface="Arial"/>
              </a:rPr>
              <a:t>МУТАГЕНИ АГЕНС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(фактори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опа индуковане мутациј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 сваки 7. нуклеотид на 100 нуклеотида претрпи мутацију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учавање мутација – вештачко индуковање мутација помоћу различитих мутагених агена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549000"/>
            <a:ext cx="668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елекција приорите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32000" y="2276280"/>
            <a:ext cx="65167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вопроизведене супстанц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шавине старих супстанц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шавине нових и старих супстанц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е којима се мења нам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пшти квалитети тесто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рименљивост добијених резултата на човек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Осетљивос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новљивос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Способност детекције генотоксичног потенцијала што већег броја агенаса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Адекватна статистичка анализа резулта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Брзина извођења тес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дноставност извођења теста и цена коштањ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78343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литератури је познато преко 100 експерименталних процед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 у Европи се од 1986. год. примењује 15 основних тестова груписаних на основу генетичког ефекта који детектуј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39640" y="2543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КОЈИМА СЕ ДЕТЕКТУЈУ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ГЕНСКЕ МУТАЦИЈ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ЗА ДЕТЕКЦИЈУ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СКИХ АБЕРАЦИЈ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ЗА ОТКРИВАЊЕ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ЕФЕКАТА НА НИВОУ ДН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357120" y="5716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ви тестови подељени су на три основне груп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90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Latn-CS" sz="3200" spc="-1" strike="noStrike">
                <a:solidFill>
                  <a:srgbClr val="c00000"/>
                </a:solidFill>
                <a:latin typeface="Arial"/>
                <a:ea typeface="Arial"/>
              </a:rPr>
              <a:t>SCE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тес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ст размене сестринских хроматид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3" descr="SCE"/>
          <p:cNvPicPr/>
          <p:nvPr/>
        </p:nvPicPr>
        <p:blipFill>
          <a:blip r:embed="rId1"/>
          <a:stretch/>
        </p:blipFill>
        <p:spPr>
          <a:xfrm>
            <a:off x="54000" y="3290760"/>
            <a:ext cx="909000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SCE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тесто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 прате оштећења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 нивоу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а 5-бромдеоксиуридин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5-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rd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ти се раст ћелија у култури и разликују с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митоз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257040"/>
            <a:ext cx="46483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 митоз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4" descr="Slika 2"/>
          <p:cNvPicPr/>
          <p:nvPr/>
        </p:nvPicPr>
        <p:blipFill>
          <a:blip r:embed="rId1"/>
          <a:stretch/>
        </p:blipFill>
        <p:spPr>
          <a:xfrm>
            <a:off x="3276720" y="333360"/>
            <a:ext cx="436536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-360" y="245880"/>
            <a:ext cx="4724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 митоз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4" descr="Slika 1"/>
          <p:cNvPicPr/>
          <p:nvPr/>
        </p:nvPicPr>
        <p:blipFill>
          <a:blip r:embed="rId1"/>
          <a:stretch/>
        </p:blipFill>
        <p:spPr>
          <a:xfrm>
            <a:off x="2627280" y="333360"/>
            <a:ext cx="42670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856800"/>
            <a:ext cx="403848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 митоз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4" descr="Slika 3"/>
          <p:cNvPicPr/>
          <p:nvPr/>
        </p:nvPicPr>
        <p:blipFill>
          <a:blip r:embed="rId1"/>
          <a:stretch/>
        </p:blipFill>
        <p:spPr>
          <a:xfrm>
            <a:off x="3348000" y="1052640"/>
            <a:ext cx="4952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настанка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SCE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-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857240"/>
            <a:ext cx="91440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мена сестринских хроматида настаје као последица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crossing over-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митози (соматски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crossing ove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 размене сестринских хроматид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реципрочна размена сегмена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и се налазе на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хомологим локусима две сестринске хроматид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фазног хромозома</a:t>
            </a:r>
            <a:r>
              <a:rPr b="0" lang="sr-CS" sz="2400" spc="-1" strike="noStrike">
                <a:solidFill>
                  <a:srgbClr val="7030a0"/>
                </a:solidFill>
                <a:latin typeface="Arial"/>
                <a:ea typeface="Arial"/>
              </a:rPr>
              <a:t>.   </a:t>
            </a:r>
            <a:r>
              <a:rPr b="0" lang="sr-Latn-CS" sz="24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генс може да оствари своје ефекте на свим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нивоима организације живе материј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на нивоу ћелиј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на нивоу тки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на нивоу организм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генс може д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елује на више различитих начи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канцероге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зрокује малигну трансформацију ћелиј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мутаге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зрокује мутациј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тератоге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зрокује промену у структури органа током ембрионалног развић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токсич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бија ћелиј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биолошки неутрал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не узрокује промен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525240"/>
            <a:ext cx="2071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HUMAN SISTER CHROMATID EXCHANGES </a:t>
            </a:r>
            <a:endParaRPr b="0" lang="en-US" sz="1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6292800"/>
            <a:ext cx="914400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lymphocyte cells treated with bromodeoxyuridine (BrdU) and stained with propidium iodide.</a:t>
            </a:r>
            <a:r>
              <a:rPr b="0" lang="sr-R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mitted by Portia Cortes, California State University-Stanislau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4" descr="sce.gif (104999 bytes)"/>
          <p:cNvPicPr/>
          <p:nvPr/>
        </p:nvPicPr>
        <p:blipFill>
          <a:blip r:embed="rId1"/>
          <a:stretch/>
        </p:blipFill>
        <p:spPr>
          <a:xfrm>
            <a:off x="2195640" y="260280"/>
            <a:ext cx="615132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foto_SCE"/>
          <p:cNvPicPr/>
          <p:nvPr/>
        </p:nvPicPr>
        <p:blipFill>
          <a:blip r:embed="rId1"/>
          <a:stretch/>
        </p:blipFill>
        <p:spPr>
          <a:xfrm>
            <a:off x="1944720" y="457200"/>
            <a:ext cx="503244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МИКРОНУКЛЕУС ТЕС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Picture 3" descr="MN sema najnovij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-360" y="857160"/>
            <a:ext cx="8381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икронуклеус тест се користи за детекцију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СКИХ АБЕРАЦИЈ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 детекциј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неугени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тогених агенас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ност теста - брзина и једноставност извођењ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снива се н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матрању хроматинских телашац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цитоплазми ћелиј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а изгледају ка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а једра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икронуклеуси (МН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5668920" y="3986280"/>
            <a:ext cx="3276720" cy="2809800"/>
          </a:xfrm>
          <a:prstGeom prst="rect">
            <a:avLst/>
          </a:prstGeom>
          <a:ln w="0">
            <a:noFill/>
          </a:ln>
        </p:spPr>
      </p:pic>
      <p:sp>
        <p:nvSpPr>
          <p:cNvPr id="273" name="Right Arrow 5"/>
          <p:cNvSpPr/>
          <p:nvPr/>
        </p:nvSpPr>
        <p:spPr>
          <a:xfrm>
            <a:off x="4419720" y="4572000"/>
            <a:ext cx="83808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-360" y="642600"/>
            <a:ext cx="8839080" cy="59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sr-CS" sz="3400" spc="-1" strike="noStrike">
                <a:solidFill>
                  <a:srgbClr val="000000"/>
                </a:solidFill>
                <a:latin typeface="Arial"/>
                <a:ea typeface="Arial"/>
              </a:rPr>
              <a:t>еханизам настанка микронуклеус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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sr-C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ске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емећ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функција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берациј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об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ете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Oval 3"/>
          <p:cNvSpPr/>
          <p:nvPr/>
        </p:nvSpPr>
        <p:spPr>
          <a:xfrm>
            <a:off x="971640" y="1197000"/>
            <a:ext cx="3240000" cy="250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4429080" y="1285920"/>
            <a:ext cx="4011480" cy="235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4214880" y="4076640"/>
            <a:ext cx="4929120" cy="25146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179280" y="378936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м тестом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ктују с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прекиди на хромозому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оштећење хромозома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центромерном реги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сте ћелија за анализу микронуклеус тестом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1920" y="2143080"/>
            <a:ext cx="899172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Сисарски материјал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сна срж миша - полихроматски еритроци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учесталост 0.31%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5" descr="Micronuclei in mouse polychromatic erythrocytes "/>
          <p:cNvPicPr/>
          <p:nvPr/>
        </p:nvPicPr>
        <p:blipFill>
          <a:blip r:embed="rId1"/>
          <a:stretch/>
        </p:blipFill>
        <p:spPr>
          <a:xfrm>
            <a:off x="5219640" y="3573360"/>
            <a:ext cx="3621240" cy="29718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152280" y="571500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. Micronuclei in mouse polychromatic erythrocytes (arrow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79280" y="1071720"/>
            <a:ext cx="8964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Хумани материјал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ферна крв човека 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имфоци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токинезис блок микронуклеус тест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BM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ултура лимфоцита периферне крви 7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/32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44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од почетка култивације културама се додај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тохалазин 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супастанца која блокира цитокинезу, па добијамо ћелије бинуклаерног изгледа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учесталост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0-12 МН/1000 БН ћел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D:\DOKTORAT RADNA VERZIJA\Slike iz UVODA  za radnu doktorsku disertaciju\BN celije bez MN copy.jpg"/>
          <p:cNvPicPr/>
          <p:nvPr/>
        </p:nvPicPr>
        <p:blipFill>
          <a:blip r:embed="rId1"/>
          <a:stretch/>
        </p:blipFill>
        <p:spPr>
          <a:xfrm>
            <a:off x="0" y="152280"/>
            <a:ext cx="5340240" cy="33004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инуклеарне ћелиј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без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МН </a:t>
            </a:r>
            <a:br>
              <a:rPr sz="22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инуклеарне ћелиј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с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4" descr="D:\DOKTORAT RADNA VERZIJA\Slike iz UVODA  za radnu doktorsku disertaciju\Slika BN sa MN.jpg"/>
          <p:cNvPicPr/>
          <p:nvPr/>
        </p:nvPicPr>
        <p:blipFill>
          <a:blip r:embed="rId2"/>
          <a:stretch/>
        </p:blipFill>
        <p:spPr>
          <a:xfrm>
            <a:off x="3733920" y="3581280"/>
            <a:ext cx="5410080" cy="3116520"/>
          </a:xfrm>
          <a:prstGeom prst="rect">
            <a:avLst/>
          </a:prstGeom>
          <a:ln w="0">
            <a:noFill/>
          </a:ln>
        </p:spPr>
      </p:pic>
      <p:sp>
        <p:nvSpPr>
          <p:cNvPr id="287" name="Curved Left Arrow 5"/>
          <p:cNvSpPr/>
          <p:nvPr/>
        </p:nvSpPr>
        <p:spPr>
          <a:xfrm>
            <a:off x="7086600" y="1371600"/>
            <a:ext cx="914400" cy="1066680"/>
          </a:xfrm>
          <a:custGeom>
            <a:avLst/>
            <a:gdLst>
              <a:gd name="textAreaLeft" fmla="*/ 122400 w 914400"/>
              <a:gd name="textAreaRight" fmla="*/ 792000 w 914400"/>
              <a:gd name="textAreaTop" fmla="*/ 180720 h 1066680"/>
              <a:gd name="textAreaBottom" fmla="*/ 7714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329" stAng="-5400000" swAng="5400000"/>
                <a:lnTo>
                  <a:pt x="21600" y="11958"/>
                </a:lnTo>
                <a:arcTo wR="21600" hR="7329" stAng="0" swAng="3163700"/>
                <a:lnTo>
                  <a:pt x="5400" y="21367"/>
                </a:lnTo>
                <a:lnTo>
                  <a:pt x="0" y="16972"/>
                </a:lnTo>
                <a:lnTo>
                  <a:pt x="5400" y="12110"/>
                </a:lnTo>
                <a:lnTo>
                  <a:pt x="5400" y="14424"/>
                </a:lnTo>
                <a:arcTo wR="21600" hR="7329" stAng="3163700" swAng="-2777103"/>
                <a:lnTo>
                  <a:pt x="20494" y="9643"/>
                </a:lnTo>
                <a:arcTo wR="21600" hR="7329" stAng="-386597" swAng="-5013403"/>
                <a:close/>
              </a:path>
              <a:path fill="darkenLess" w="21600" h="21600">
                <a:moveTo>
                  <a:pt x="0" y="0"/>
                </a:moveTo>
                <a:arcTo wR="21600" hR="7329" stAng="-5400000" swAng="5400000"/>
                <a:lnTo>
                  <a:pt x="21600" y="11958"/>
                </a:lnTo>
                <a:arcTo wR="21600" hR="7329" stAng="0" swAng="-386597"/>
                <a:lnTo>
                  <a:pt x="20494" y="9643"/>
                </a:lnTo>
                <a:arcTo wR="21600" hR="7329" stAng="-386597" swAng="-5013403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rved Right Arrow 6"/>
          <p:cNvSpPr/>
          <p:nvPr/>
        </p:nvSpPr>
        <p:spPr>
          <a:xfrm>
            <a:off x="1143000" y="4724280"/>
            <a:ext cx="1676520" cy="129564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202320 h 1295640"/>
              <a:gd name="textAreaBottom" fmla="*/ 93132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467116"/>
                <a:lnTo>
                  <a:pt x="17427" y="21473"/>
                </a:lnTo>
                <a:lnTo>
                  <a:pt x="21600" y="16200"/>
                </a:lnTo>
                <a:lnTo>
                  <a:pt x="17427" y="10673"/>
                </a:lnTo>
                <a:lnTo>
                  <a:pt x="17427" y="13373"/>
                </a:lnTo>
                <a:arcTo wR="21600" hR="6750" stAng="7332884" swAng="300113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55044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400" spc="-1" strike="noStrike">
                <a:solidFill>
                  <a:srgbClr val="000000"/>
                </a:solidFill>
                <a:latin typeface="Arial"/>
                <a:ea typeface="Gulim"/>
              </a:rPr>
              <a:t>3. </a:t>
            </a:r>
            <a:r>
              <a:rPr b="1" lang="en-US" sz="3400" spc="-1" strike="noStrike">
                <a:solidFill>
                  <a:srgbClr val="c00000"/>
                </a:solidFill>
                <a:latin typeface="Arial"/>
                <a:ea typeface="Gulim"/>
              </a:rPr>
              <a:t>ТЕСТ ХРОМОЗОМСКИХ АБЕРАЦИЈА У СИСАРСКИМ ЋЕЛИЈАМА</a:t>
            </a:r>
            <a:r>
              <a:rPr b="1" lang="en-US" sz="3400" spc="-1" strike="noStrike">
                <a:solidFill>
                  <a:srgbClr val="c00000"/>
                </a:solidFill>
                <a:latin typeface="Arial"/>
                <a:ea typeface="Gulim"/>
              </a:rPr>
              <a:t>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304920" y="2819520"/>
            <a:ext cx="8838720" cy="3361680"/>
            <a:chOff x="304920" y="2819520"/>
            <a:chExt cx="8838720" cy="3361680"/>
          </a:xfrm>
        </p:grpSpPr>
        <p:graphicFrame>
          <p:nvGraphicFramePr>
            <p:cNvPr id="291" name="Object 4"/>
            <p:cNvGraphicFramePr/>
            <p:nvPr/>
          </p:nvGraphicFramePr>
          <p:xfrm>
            <a:off x="304920" y="2820960"/>
            <a:ext cx="2866320" cy="336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820960"/>
                      <a:ext cx="2866320" cy="33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Object 5"/>
            <p:cNvGraphicFramePr/>
            <p:nvPr/>
          </p:nvGraphicFramePr>
          <p:xfrm>
            <a:off x="3397320" y="2819520"/>
            <a:ext cx="2894760" cy="333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97320" y="2819520"/>
                      <a:ext cx="2894760" cy="33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6"/>
            <p:cNvGraphicFramePr/>
            <p:nvPr/>
          </p:nvGraphicFramePr>
          <p:xfrm>
            <a:off x="6468840" y="2832840"/>
            <a:ext cx="2674800" cy="332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6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68840" y="2832840"/>
                      <a:ext cx="2674800" cy="332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51920" y="1714680"/>
            <a:ext cx="899172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м се детектују хромозомске аберациј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остоје две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врсте тестова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i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in vitro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(у култури ћелиј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i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in viv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ајчешћ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ип ћелиј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који се користи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за тестирање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ЛИМФОЦИТИ ПЕРИФЕРНЕ КРВ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(због једноставности добијања узорк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Ћелијске линије, нпр.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CHO линија</a:t>
            </a:r>
            <a:r>
              <a:rPr b="0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(ћелије из оваријума кинеског хрчка) има 22 хромозома и ћелијски циклус траје 12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142920" y="357120"/>
            <a:ext cx="864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ТЕСТ ХРОМОЗОМСКИХ АБЕРАЦИЈА У СИСАРСКИМ ЋЕЛИЈАМ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који узрокују мутациј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26920" y="1988640"/>
            <a:ext cx="8066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CS" sz="2800" spc="-1" strike="noStrike">
                <a:solidFill>
                  <a:srgbClr val="ff0066"/>
                </a:solidFill>
                <a:latin typeface="Arial"/>
                <a:ea typeface="Arial"/>
              </a:rPr>
              <a:t>Хемијск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агенс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CS" sz="2800" spc="-1" strike="noStrike">
                <a:solidFill>
                  <a:srgbClr val="ff0066"/>
                </a:solidFill>
                <a:latin typeface="Arial"/>
                <a:ea typeface="Arial"/>
              </a:rPr>
              <a:t>Физички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генси – зраче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температура.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r-CS" sz="2800" spc="-1" strike="noStrike">
                <a:solidFill>
                  <a:srgbClr val="ff0066"/>
                </a:solidFill>
                <a:latin typeface="Arial"/>
                <a:ea typeface="Arial"/>
              </a:rPr>
              <a:t>Биолошк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агенси – вирус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971640" y="1491840"/>
            <a:ext cx="7524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РЕЗУЛТАТ</a:t>
            </a:r>
            <a:r>
              <a:rPr b="0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ТЕСТА</a:t>
            </a:r>
            <a:r>
              <a:rPr b="0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На добијеним препаратима анализирају 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СКЕ АБЕРАЦИЈ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су то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ски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хроматидни прекиди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, а ређе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инверзије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транслокације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Треба прегледати око 30 хромозомских гарниту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чка обрада резулт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3152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Хемијски агенс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95280" y="1412640"/>
            <a:ext cx="83311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 1949. познато је да хемијске супстанце могу изазвати промене у генетичком материјал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исно од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фазе ћелијског циклу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узрокуј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аберациј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хроматид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G2 и S фази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берациј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хромозомск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G1 фази) тип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личина оштећења пропорционална је употребљеној 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Arial"/>
              </a:rPr>
              <a:t>доз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Доза је количина супстанце која реагује са молекулом ДН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пецифични су у индукцији проме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код одређеног по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одређеној фази ће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јск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циклу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 да доведу до мутација у било ком делу генома, тј. у било ком ген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омене у генетичком материјалу</a:t>
            </a:r>
            <a:r>
              <a:rPr b="0" lang="sr-Latn-CS" sz="4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4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560" y="1341360"/>
            <a:ext cx="8893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66"/>
                </a:solidFill>
                <a:latin typeface="Arial"/>
              </a:rPr>
              <a:t>1. </a:t>
            </a:r>
            <a:r>
              <a:rPr b="1" lang="sr-CS" sz="2600" spc="-1" strike="noStrike" u="sng">
                <a:solidFill>
                  <a:srgbClr val="ff0066"/>
                </a:solidFill>
                <a:uFillTx/>
                <a:latin typeface="Arial"/>
              </a:rPr>
              <a:t>ХРОМОЗОМСКЕ АБЕР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Нумеричк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берације хромозома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олиплоидије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анеуплоид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 Структур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берације хромозома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аберације типа прекид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хроматидних и хромозом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ахроматске лезиј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инверзиј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рстенасти хромозом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дицентрични хромозом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трансло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sr-CS" sz="2600" spc="-1" strike="noStrike" u="sng">
                <a:solidFill>
                  <a:srgbClr val="ff0066"/>
                </a:solidFill>
                <a:uFillTx/>
                <a:latin typeface="Arial"/>
              </a:rPr>
              <a:t> ГЕНСКЕ МУТ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3964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еакција хемијских агенаса са молекулом ДНК може бити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ректн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индиректн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sr-CS" sz="3200" spc="-1" strike="noStrike">
                <a:solidFill>
                  <a:srgbClr val="000000"/>
                </a:solidFill>
                <a:latin typeface="Arial"/>
              </a:rPr>
              <a:t>захтевају метаболичку активаци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Korisnik</cp:lastModifiedBy>
  <dcterms:modified xsi:type="dcterms:W3CDTF">2021-08-26T09:17:26Z</dcterms:modified>
  <cp:revision>235</cp:revision>
  <dc:subject/>
  <dc:title>MUTACIJE GENA</dc:title>
</cp:coreProperties>
</file>